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6D04-3320-42F5-8E08-DC575CECE519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E3F1-0566-404B-B1D8-743B2C3732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075-42F2-4649-A96C-330749F7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BAC-D2EA-4290-B5F9-4C6D5D9B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AAE-AD20-482D-ADF9-BE3B51B5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8EF-9A0F-47A1-8288-3D458B12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FDE4-6A50-4A18-A534-3AE06D2D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B1A8-E1CC-4D37-86B4-A8CD292E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5152-ACD9-429D-9DA6-305CE7B0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6FB5-5DC8-4EF0-8496-12B4CE58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85EE-2AFA-4E8E-90A4-BE933F6C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A64E-3CC0-497B-9F63-EA2C126B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6839-F321-4209-B846-83FE54B3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7D7-2FF1-4870-8B9C-11C63624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A8DE-FDE0-4C95-A109-B5C94801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6059-8B64-48C4-B0D2-1750FF1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B672-A1D3-4FE1-95C7-97CBAF00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3ABE-9A53-4474-A2A6-0C52182F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5E97-8575-46BD-9806-F26D3EE0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DE7-1BF5-46D9-B23A-B1CC9499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DAF-40AF-496B-B755-EE7D78A3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A98-0F9C-4130-B43B-91E747A0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793-762B-47D4-8D04-1FA0C6B4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2EC-BAB1-4F90-B533-BA54BC21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015-3040-4ACE-95B7-68DA00E7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93F-AB49-436B-8005-34257D52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D9E1-6F31-4EB9-A979-EC21727EE48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1397-028A-4419-82D5-E439010BBE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Rectangle 5"/>
          <p:cNvGrpSpPr/>
          <p:nvPr/>
        </p:nvGrpSpPr>
        <p:grpSpPr>
          <a:xfrm>
            <a:off x="1189080" y="1268280"/>
            <a:ext cx="6259320" cy="4535640"/>
            <a:chOff x="1189080" y="1268280"/>
            <a:chExt cx="6259320" cy="4535640"/>
          </a:xfrm>
        </p:grpSpPr>
        <p:pic>
          <p:nvPicPr>
            <p:cNvPr id="94" name="Rectangle 5" descr=""/>
            <p:cNvPicPr/>
            <p:nvPr/>
          </p:nvPicPr>
          <p:blipFill>
            <a:blip r:embed="rId1"/>
            <a:stretch/>
          </p:blipFill>
          <p:spPr>
            <a:xfrm>
              <a:off x="1190520" y="1268280"/>
              <a:ext cx="6254280" cy="45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89080" y="1268280"/>
              <a:ext cx="6259320" cy="45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bava, smeh in razveseljevanje bližnjih večajo življenjsko sreč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Življenje je lovljenje ravnotežja med odgovornostmi, delom, počitkom in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Vse ima svoje mesto v velikem zemljevidu življenja. Zato se je treba nagraditi s časom za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a te napolni z energijo, ki jo potrebuješ, da se sreča lahko obnavlj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to te prisrčno vabim, da se poveseliš z mano - ob mojem prihajajočem 40. rojstnem dnev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1600" spc="-1" strike="noStrike" u="sng">
                  <a:solidFill>
                    <a:srgbClr val="000000"/>
                  </a:solidFill>
                  <a:uFillTx/>
                  <a:latin typeface="Andalus"/>
                  <a:ea typeface="Andalus"/>
                </a:rPr>
                <a:t>dne 23. oktobra 2014 ob 14.10 minu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e dobimo na </a:t>
              </a:r>
              <a:r>
                <a:rPr b="1" i="1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arkirišču za osnovno šolo  </a:t>
              </a: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 skupaj odidemo v neznan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Melita Žlajpa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13T09:18:08Z</dcterms:modified>
  <cp:revision>75</cp:revision>
  <dc:subject/>
  <dc:title>TITLE</dc:title>
</cp:coreProperties>
</file>